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D6A-42F9-44C3-A5BC-1FEBCA7A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F1B-0352-4AF2-B80F-3B9CD30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278-D08B-473B-B5FB-6F8220F2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79F-93C9-406B-A224-CC4B6BD9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A35-A2FA-4D4D-9C8A-2005A04E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B85C-66F4-4A6E-87BD-0181057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B8A2-66DB-4181-88C6-0F3A6C2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BB29-5CFF-4470-B60D-88899DBC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6196-2B86-4C81-BB2F-1D5C7EB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84E9-F9B0-4F51-BB9A-92916D8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D9FB-3BC5-4BF5-882E-1A052F6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346-AB33-48DD-9BE8-DF8ADA75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16CD-D740-4229-8CFD-7C87EA2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6B27-13E7-44F4-A5A3-2D392F9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231B-E86B-4DB4-BE90-0E16E4F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6048-7DCD-49D0-A79A-1463A5E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8CCA-8AE2-4A07-B278-D0C94C67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F7E-FC16-4E38-B520-BFC04A39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6D7-7FEB-4EF4-B3CE-0102526A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24F-E6B4-42E1-A7B2-8703C3FE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6BE-E0FD-4DA5-8107-3FDE03B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B7D-3054-4484-9D34-57D91A6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0BE-F1DC-4AE3-9739-9F241F8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4B9-7283-4D83-8911-9BBBB6D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695-179A-41E2-B6D1-BFAB992F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89A-78E0-4FC0-B497-F7BD5148E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n, In Six Word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4419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social contract.  Write your description on a post-it note with your n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304920" y="228600"/>
            <a:ext cx="647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badi MT Condensed Extra Bold"/>
                <a:ea typeface="Abadi MT Condensed Extra Bold"/>
              </a:rPr>
              <a:t>CALL TO ORDER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752480" y="1523880"/>
            <a:ext cx="5451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ut your homework in the upper-right hand corner of your desk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2) Mon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der is part of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royal fami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nheri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ow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n exist within another government, but monarch has no power (i.e. modern queen of England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King George III of Englan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3520" y="1371600"/>
          <a:ext cx="4190760" cy="524340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r King George III of England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952880" y="1371600"/>
          <a:ext cx="3962520" cy="52578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Queen Elizabeth of Eng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22" descr="george-iii"/>
          <p:cNvPicPr/>
          <p:nvPr/>
        </p:nvPicPr>
        <p:blipFill>
          <a:blip r:embed="rId1"/>
          <a:stretch/>
        </p:blipFill>
        <p:spPr>
          <a:xfrm>
            <a:off x="533520" y="2362320"/>
            <a:ext cx="4190760" cy="4267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4" descr="royal_queen"/>
          <p:cNvPicPr/>
          <p:nvPr/>
        </p:nvPicPr>
        <p:blipFill>
          <a:blip r:embed="rId2"/>
          <a:stretch/>
        </p:blipFill>
        <p:spPr>
          <a:xfrm>
            <a:off x="4952880" y="23623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) Oligarc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Small group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f leaders are determined b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wealth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 social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posi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jority of citizens are not members of the powerful grou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Communist Party in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ligarch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5" descr="oligar4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5" descr="goverment-farm-subsidies-going-to-the-wealthy-01-af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4) Representative Democr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te for some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o is elected to make decisions fo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United Stat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) Representative Democ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523880"/>
          <a:ext cx="3429000" cy="4730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of Maryland Vo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648320" y="1447920"/>
          <a:ext cx="3886200" cy="45385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Elected Martin O’Mall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4" name="Picture 36" descr="voting_booth"/>
          <p:cNvPicPr/>
          <p:nvPr/>
        </p:nvPicPr>
        <p:blipFill>
          <a:blip r:embed="rId1"/>
          <a:stretch/>
        </p:blipFill>
        <p:spPr>
          <a:xfrm>
            <a:off x="457200" y="2362320"/>
            <a:ext cx="3429000" cy="3962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4" descr="434px-Right_arrow"/>
          <p:cNvPicPr/>
          <p:nvPr/>
        </p:nvPicPr>
        <p:blipFill>
          <a:blip r:embed="rId2"/>
          <a:stretch/>
        </p:blipFill>
        <p:spPr>
          <a:xfrm>
            <a:off x="3505320" y="312408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"/>
          <p:cNvPicPr/>
          <p:nvPr/>
        </p:nvPicPr>
        <p:blipFill>
          <a:blip r:embed="rId3"/>
          <a:srcRect l="0" t="0" r="47277" b="0"/>
          <a:stretch/>
        </p:blipFill>
        <p:spPr>
          <a:xfrm>
            <a:off x="5486400" y="2438280"/>
            <a:ext cx="2209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5) Direct Democr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vote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issue themsel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is pretty unrealistic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Massachusetts Town Hall Meet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) Direct Democ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town%20hall%20meeting%20hall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809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vote"/>
          <p:cNvPicPr/>
          <p:nvPr/>
        </p:nvPicPr>
        <p:blipFill>
          <a:blip r:embed="rId2"/>
          <a:stretch/>
        </p:blipFill>
        <p:spPr>
          <a:xfrm>
            <a:off x="3962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vote"/>
          <p:cNvPicPr/>
          <p:nvPr/>
        </p:nvPicPr>
        <p:blipFill>
          <a:blip r:embed="rId3"/>
          <a:stretch/>
        </p:blipFill>
        <p:spPr>
          <a:xfrm>
            <a:off x="5105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9" descr="vote"/>
          <p:cNvPicPr/>
          <p:nvPr/>
        </p:nvPicPr>
        <p:blipFill>
          <a:blip r:embed="rId4"/>
          <a:stretch/>
        </p:blipFill>
        <p:spPr>
          <a:xfrm>
            <a:off x="6324480" y="1066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vote"/>
          <p:cNvPicPr/>
          <p:nvPr/>
        </p:nvPicPr>
        <p:blipFill>
          <a:blip r:embed="rId5"/>
          <a:stretch/>
        </p:blipFill>
        <p:spPr>
          <a:xfrm>
            <a:off x="7543800" y="1066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1" descr="vote"/>
          <p:cNvPicPr/>
          <p:nvPr/>
        </p:nvPicPr>
        <p:blipFill>
          <a:blip r:embed="rId6"/>
          <a:stretch/>
        </p:blipFill>
        <p:spPr>
          <a:xfrm>
            <a:off x="2819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2" descr="vote"/>
          <p:cNvPicPr/>
          <p:nvPr/>
        </p:nvPicPr>
        <p:blipFill>
          <a:blip r:embed="rId7"/>
          <a:stretch/>
        </p:blipFill>
        <p:spPr>
          <a:xfrm>
            <a:off x="1676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" descr="vote"/>
          <p:cNvPicPr/>
          <p:nvPr/>
        </p:nvPicPr>
        <p:blipFill>
          <a:blip r:embed="rId8"/>
          <a:stretch/>
        </p:blipFill>
        <p:spPr>
          <a:xfrm>
            <a:off x="533520" y="1066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4" descr="vote"/>
          <p:cNvPicPr/>
          <p:nvPr/>
        </p:nvPicPr>
        <p:blipFill>
          <a:blip r:embed="rId9"/>
          <a:stretch/>
        </p:blipFill>
        <p:spPr>
          <a:xfrm>
            <a:off x="152280" y="2209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vote"/>
          <p:cNvPicPr/>
          <p:nvPr/>
        </p:nvPicPr>
        <p:blipFill>
          <a:blip r:embed="rId10"/>
          <a:stretch/>
        </p:blipFill>
        <p:spPr>
          <a:xfrm>
            <a:off x="152280" y="3352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6" descr="vote"/>
          <p:cNvPicPr/>
          <p:nvPr/>
        </p:nvPicPr>
        <p:blipFill>
          <a:blip r:embed="rId11"/>
          <a:stretch/>
        </p:blipFill>
        <p:spPr>
          <a:xfrm>
            <a:off x="152280" y="4495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7" descr="vote"/>
          <p:cNvPicPr/>
          <p:nvPr/>
        </p:nvPicPr>
        <p:blipFill>
          <a:blip r:embed="rId12"/>
          <a:stretch/>
        </p:blipFill>
        <p:spPr>
          <a:xfrm>
            <a:off x="152280" y="5638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8" descr="vote"/>
          <p:cNvPicPr/>
          <p:nvPr/>
        </p:nvPicPr>
        <p:blipFill>
          <a:blip r:embed="rId13"/>
          <a:stretch/>
        </p:blipFill>
        <p:spPr>
          <a:xfrm>
            <a:off x="129528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9" descr="vote"/>
          <p:cNvPicPr/>
          <p:nvPr/>
        </p:nvPicPr>
        <p:blipFill>
          <a:blip r:embed="rId14"/>
          <a:stretch/>
        </p:blipFill>
        <p:spPr>
          <a:xfrm>
            <a:off x="25909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0" descr="vote"/>
          <p:cNvPicPr/>
          <p:nvPr/>
        </p:nvPicPr>
        <p:blipFill>
          <a:blip r:embed="rId15"/>
          <a:stretch/>
        </p:blipFill>
        <p:spPr>
          <a:xfrm>
            <a:off x="3886200" y="601992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1" descr="vote"/>
          <p:cNvPicPr/>
          <p:nvPr/>
        </p:nvPicPr>
        <p:blipFill>
          <a:blip r:embed="rId16"/>
          <a:stretch/>
        </p:blipFill>
        <p:spPr>
          <a:xfrm>
            <a:off x="7848720" y="2209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2" descr="vote"/>
          <p:cNvPicPr/>
          <p:nvPr/>
        </p:nvPicPr>
        <p:blipFill>
          <a:blip r:embed="rId17"/>
          <a:stretch/>
        </p:blipFill>
        <p:spPr>
          <a:xfrm>
            <a:off x="7848720" y="3352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3" descr="vote"/>
          <p:cNvPicPr/>
          <p:nvPr/>
        </p:nvPicPr>
        <p:blipFill>
          <a:blip r:embed="rId18"/>
          <a:stretch/>
        </p:blipFill>
        <p:spPr>
          <a:xfrm>
            <a:off x="7848720" y="44197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4" descr="vote"/>
          <p:cNvPicPr/>
          <p:nvPr/>
        </p:nvPicPr>
        <p:blipFill>
          <a:blip r:embed="rId19"/>
          <a:stretch/>
        </p:blipFill>
        <p:spPr>
          <a:xfrm>
            <a:off x="7848720" y="5638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5" descr="vote"/>
          <p:cNvPicPr/>
          <p:nvPr/>
        </p:nvPicPr>
        <p:blipFill>
          <a:blip r:embed="rId20"/>
          <a:stretch/>
        </p:blipFill>
        <p:spPr>
          <a:xfrm>
            <a:off x="5105520" y="601992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6" descr="vote"/>
          <p:cNvPicPr/>
          <p:nvPr/>
        </p:nvPicPr>
        <p:blipFill>
          <a:blip r:embed="rId21"/>
          <a:stretch/>
        </p:blipFill>
        <p:spPr>
          <a:xfrm>
            <a:off x="6553080" y="6019920"/>
            <a:ext cx="990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Can you figure out what </a:t>
            </a:r>
            <a:r>
              <a:rPr b="1" lang="en-US" sz="3300" spc="-1" strike="noStrike" u="sng">
                <a:solidFill>
                  <a:srgbClr val="ffff00"/>
                </a:solidFill>
                <a:uFillTx/>
                <a:latin typeface="Arial"/>
              </a:rPr>
              <a:t>specific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 type of government goes with each </a:t>
            </a:r>
            <a:r>
              <a:rPr b="1" lang="en-US" sz="3300" spc="-1" strike="noStrike" u="sng">
                <a:solidFill>
                  <a:srgbClr val="ffff00"/>
                </a:solidFill>
                <a:uFillTx/>
                <a:latin typeface="Arial"/>
              </a:rPr>
              <a:t>major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 type?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lide will provide you with information about Authoritarian (Totalitarian) and Democratic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own Authoritarian Govt and Democratic Govt in notebook in a T-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 out your checklist from yester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any questions you needed answering before the quiz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447920"/>
          <a:ext cx="4267080" cy="5257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itarian Government 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so known as Totalitarian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vides the LEAST citizen influe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vt has </a:t>
                      </a:r>
                      <a:r>
                        <a:rPr b="1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bsolute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or </a:t>
                      </a:r>
                      <a:r>
                        <a:rPr b="1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unlimited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p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s have no individual freedoms (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ontrolled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nd censore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724280" y="1447920"/>
          <a:ext cx="4114800" cy="5029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cratic Gover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vide the MOST citizen influenc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vt has 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imited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wers outlined in Constit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itizens have individual </a:t>
                      </a: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rights,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such as voting and free speech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hich types go in each category?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4920" y="1447920"/>
          <a:ext cx="4267080" cy="525780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horitarian Government (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so known as Totalitarian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tator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arc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ligarc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724280" y="1447920"/>
          <a:ext cx="4114800" cy="50292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cratic Governmen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presentative Democr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 Democrac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be able to describe and categorize the types of authoritarian and democratic governments BY participating in a musical simulation and analyzing government head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iz Taking 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talk during any part of the test, even if you are finish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r will be posted at the front of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are done, raise your hand and sit quietly.  I will come and take your quiz from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be able to describe and categorize the types of authoritarian and democratic governments BY participating in a musical simulation and analyzing government head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cussion Ques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remember to raise your han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’re at a party, do you like being in control of the music?  Or do you like others to be in control of the music?  Why?  Which is easier?  Which is more f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s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focus on different types of government and the different ways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k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 will be selected based on the type of government we are discu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take “Cornell Notes” as the music pl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have a song list at your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rec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2819160"/>
            <a:ext cx="2057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9520" y="15235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music is playing, you are to copy dow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ype of gover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orm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xt to 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etween each song, Mr. Dunklow will explain what to do 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part of the song will be pla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8" descr="music%20notes"/>
          <p:cNvPicPr/>
          <p:nvPr/>
        </p:nvPicPr>
        <p:blipFill>
          <a:blip r:embed="rId1"/>
          <a:stretch/>
        </p:blipFill>
        <p:spPr>
          <a:xfrm>
            <a:off x="304920" y="1828800"/>
            <a:ext cx="3429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1) Dictator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eader wear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ilitar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uniforms and takes power through brutal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for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lections, if held, are not conducted fairly (100% of popular vot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buClr>
                <a:srgbClr val="99ff99"/>
              </a:buClr>
              <a:buSzPct val="80000"/>
              <a:buFont typeface="Courier Ne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xample: Saddam Hussein in Iraq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ctatorshi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371600"/>
          <a:ext cx="4572000" cy="52434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er dictator of Iraq: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ddam Huss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952880" y="1371600"/>
          <a:ext cx="3962520" cy="525780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dictator of Cuba: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de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32" descr="sadhussein"/>
          <p:cNvPicPr/>
          <p:nvPr/>
        </p:nvPicPr>
        <p:blipFill>
          <a:blip r:embed="rId1"/>
          <a:stretch/>
        </p:blipFill>
        <p:spPr>
          <a:xfrm>
            <a:off x="152280" y="2362320"/>
            <a:ext cx="4572000" cy="426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8" descr="028FidelCastroMOS_468x459"/>
          <p:cNvPicPr/>
          <p:nvPr/>
        </p:nvPicPr>
        <p:blipFill>
          <a:blip r:embed="rId2"/>
          <a:stretch/>
        </p:blipFill>
        <p:spPr>
          <a:xfrm>
            <a:off x="4952880" y="2362320"/>
            <a:ext cx="39625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3:28:59Z</dcterms:created>
  <dc:creator>CMTurk</dc:creator>
  <dc:description/>
  <dc:language>en-US</dc:language>
  <cp:lastModifiedBy>Molly Zeins</cp:lastModifiedBy>
  <dcterms:modified xsi:type="dcterms:W3CDTF">2010-09-18T01:47:04Z</dcterms:modified>
  <cp:revision>9</cp:revision>
  <dc:subject/>
  <dc:title>Slide 1</dc:title>
</cp:coreProperties>
</file>